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A90-94F9-403E-9916-6E808169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64F-B983-4983-80C0-C2331788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403-F292-41D2-AD28-74BD0891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AAD-E77E-4665-B8B9-6B8C3869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FF6F-AF30-4474-8B2E-57DEBB3A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592-D4AC-4FA4-B7A1-8E5B353B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B19-EF06-4FE6-B5FF-8B1920D5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D88-A6EF-460F-8028-34B7C9CE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66B-40B5-4EEE-8F33-7BB6BD74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D29-A1B0-4CC9-9EBF-967FF222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2BE-BCD8-4256-9011-B50BEB8E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4E4-6B67-4D7B-990E-C592548E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75C7-9938-4AAC-95AF-4F964F6B273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HE_RD_skill_strategy_jan06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Minion"/>
              </a:rPr>
              <a:t>PHE RD Software Skill Strateg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. Bocio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HE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1, 22.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1FF-0233-4E4F-9BEF-05DB0F91CC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907920"/>
            <a:ext cx="4176720" cy="5172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, Contract, Partner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720" y="1052640"/>
            <a:ext cx="4032360" cy="46346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7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HE RD Software Skill Needs Aligned to Product Lay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00000" y="112536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Definition &amp; Us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1655640"/>
            <a:ext cx="338472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Customization &amp; Wiz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2060640"/>
            <a:ext cx="338472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Programming &amp;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3789360"/>
            <a:ext cx="3384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graming Support, Wizards,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4175280"/>
            <a:ext cx="3384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ograming API‘s, middleware, 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456264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level, stacks &amp;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496728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&amp; device layer, 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-675360" y="3636000"/>
            <a:ext cx="280836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,Frameworks,Com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492280"/>
            <a:ext cx="1081080" cy="15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alue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2720" y="2492280"/>
            <a:ext cx="108108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M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dio,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ideo,DV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492280"/>
            <a:ext cx="107964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ic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ffice 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-6480" y="1600200"/>
            <a:ext cx="125748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981000"/>
            <a:ext cx="3960720" cy="1535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Core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cannot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be outsourced or off-sh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lustered in very few locations (MUC, KLF: platform rela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st be brilliant people; can be expens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473200"/>
            <a:ext cx="3960720" cy="247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Basic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 solid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x of experienced staff and new university h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n be balanced between hi-lo cost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hould be organized in clusters of compet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xternal support staff for special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4292640"/>
            <a:ext cx="3960720" cy="179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Support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 solid own basis on each CoC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0% for software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0% staff can be lo-cost, lo(wer) sk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% - 30% external resources for peak sit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57720"/>
            <a:ext cx="22320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elephony, audio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E51-4D22-4AC7-AC83-F050835964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flipV="1">
            <a:off x="6227640" y="1125360"/>
            <a:ext cx="216072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298920" y="1125360"/>
            <a:ext cx="216036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E RD Offshore Possibiliti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 flipV="1">
            <a:off x="1403280" y="979560"/>
            <a:ext cx="0" cy="496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594828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268280"/>
            <a:ext cx="2376360" cy="4199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0836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38680" y="1197000"/>
            <a:ext cx="3830400" cy="4248000"/>
            <a:chOff x="3838680" y="1197000"/>
            <a:chExt cx="3830400" cy="4248000"/>
          </a:xfrm>
        </p:grpSpPr>
        <p:sp>
          <p:nvSpPr>
            <p:cNvPr id="74" name=""/>
            <p:cNvSpPr/>
            <p:nvPr/>
          </p:nvSpPr>
          <p:spPr>
            <a:xfrm>
              <a:off x="3924360" y="1197000"/>
              <a:ext cx="3744720" cy="4248000"/>
            </a:xfrm>
            <a:prstGeom prst="rtTriangl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38680" y="5432400"/>
              <a:ext cx="38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3995640" y="1268280"/>
              <a:ext cx="3672000" cy="41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403280" y="313992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32640" y="597204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08472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7040" y="64440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7320" y="20131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800" y="41590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31760" y="5942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36640" y="5942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11480" y="594216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111640"/>
            <a:ext cx="2376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Definition &amp; Us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4076640"/>
            <a:ext cx="338436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graming Support, Wizards,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3213000"/>
            <a:ext cx="1511280" cy="9464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ograming API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ddle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3498840"/>
            <a:ext cx="1440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level, 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2924280"/>
            <a:ext cx="15112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&amp; 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27640" y="4467240"/>
            <a:ext cx="2232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rameworks, Compon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5516640"/>
            <a:ext cx="2952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&amp; Contract &amp; Partner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2019240"/>
            <a:ext cx="158400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Custo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Wiz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4437000"/>
            <a:ext cx="158436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Programming &amp;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5280" y="1773360"/>
            <a:ext cx="1081080" cy="137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alue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2565360"/>
            <a:ext cx="108108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M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dio,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VB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3716280"/>
            <a:ext cx="107964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ic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ffice 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ls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1197000"/>
            <a:ext cx="125748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110-B57E-4D48-AD4A-0D723394A5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 flipV="1">
            <a:off x="6227640" y="1125360"/>
            <a:ext cx="216072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298920" y="1125360"/>
            <a:ext cx="216036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E RD Offshore Possibiliti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flipV="1">
            <a:off x="1403280" y="979560"/>
            <a:ext cx="0" cy="496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594828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1268280"/>
            <a:ext cx="2376360" cy="4199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70836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38680" y="1197000"/>
            <a:ext cx="3830400" cy="4248000"/>
            <a:chOff x="3838680" y="1197000"/>
            <a:chExt cx="3830400" cy="4248000"/>
          </a:xfrm>
        </p:grpSpPr>
        <p:sp>
          <p:nvSpPr>
            <p:cNvPr id="108" name=""/>
            <p:cNvSpPr/>
            <p:nvPr/>
          </p:nvSpPr>
          <p:spPr>
            <a:xfrm>
              <a:off x="3924360" y="1197000"/>
              <a:ext cx="3744720" cy="4248000"/>
            </a:xfrm>
            <a:prstGeom prst="rtTriangl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38680" y="5432400"/>
              <a:ext cx="38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3995640" y="1268280"/>
              <a:ext cx="3672000" cy="41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403280" y="313992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32640" y="597204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8472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7040" y="64440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7320" y="20131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800" y="41590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31760" y="5942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36640" y="5942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11480" y="594216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27640" y="5111640"/>
            <a:ext cx="2376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Definition &amp; Us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4076640"/>
            <a:ext cx="338436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graming Support, Wizards,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3213000"/>
            <a:ext cx="1511280" cy="9464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ograming API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ddle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3498840"/>
            <a:ext cx="1440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level, 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2924280"/>
            <a:ext cx="15112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&amp; 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4467240"/>
            <a:ext cx="2232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rameworks, Compon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5516640"/>
            <a:ext cx="2952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&amp; Contract &amp; Partner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5280" y="1773360"/>
            <a:ext cx="1081080" cy="137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alue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2565360"/>
            <a:ext cx="108108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M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dio,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VB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1640" y="3716280"/>
            <a:ext cx="107964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ic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ffice 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ls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1197000"/>
            <a:ext cx="125748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3213000"/>
            <a:ext cx="3276720" cy="2664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a0e66"/>
                </a:solidFill>
                <a:latin typeface="Minion"/>
                <a:ea typeface="文鼎中黑"/>
              </a:rPr>
              <a:t>MUC &amp; K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a0e66"/>
                </a:solidFill>
                <a:latin typeface="Minion"/>
                <a:ea typeface="文鼎中黑"/>
              </a:rPr>
              <a:t>(Qualcomm 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a0e66"/>
                </a:solidFill>
                <a:latin typeface="Minion"/>
                <a:ea typeface="文鼎中黑"/>
              </a:rPr>
              <a:t>Apox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19640" y="2019240"/>
            <a:ext cx="158400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Custo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Wiz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4437000"/>
            <a:ext cx="158436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Programming &amp;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1989000"/>
            <a:ext cx="2879640" cy="21607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a0e66"/>
                </a:solidFill>
                <a:latin typeface="Minion"/>
                <a:ea typeface="文鼎中黑"/>
              </a:rPr>
              <a:t>W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981000"/>
            <a:ext cx="2016000" cy="1079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a0e66"/>
                </a:solidFill>
                <a:latin typeface="Minion"/>
                <a:ea typeface="文鼎中黑"/>
              </a:rPr>
              <a:t>M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15B-885E-4A0E-934A-FD668548D0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E RD Location Strateg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39640" y="770040"/>
            <a:ext cx="21607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3064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77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77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98240" y="8190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07440" y="87588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641160" y="9702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55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84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1319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24192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27068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9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82440" y="1322280"/>
            <a:ext cx="18752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ac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s. Spec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va A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770040"/>
            <a:ext cx="21607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13064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77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77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38680" y="8888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WRO f. K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899800" y="87588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233520" y="9702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155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184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21319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32000" y="24192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27068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32000" y="29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32760" y="1322280"/>
            <a:ext cx="16786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AL/ULM int&amp;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ex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36240" y="1322280"/>
            <a:ext cx="4870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81120" y="1322280"/>
            <a:ext cx="3848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770040"/>
            <a:ext cx="21607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24360" y="13064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77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77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28160" y="88884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WRO f. MU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5492160" y="87588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5826240" y="9702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155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184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21319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24192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27068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24360" y="29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90200" y="1322280"/>
            <a:ext cx="16786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ex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28960" y="1322280"/>
            <a:ext cx="4870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73480" y="1322280"/>
            <a:ext cx="3848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3435480"/>
            <a:ext cx="2160720" cy="331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39718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11360" y="3435480"/>
            <a:ext cx="8280" cy="33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687480" y="3435480"/>
            <a:ext cx="12600" cy="328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0" y="3484440"/>
            <a:ext cx="10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   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2891880" y="35413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3225600" y="36356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42228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451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47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50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537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6624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59529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6440" y="3435480"/>
            <a:ext cx="2160720" cy="33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6440" y="39718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04080" y="3435480"/>
            <a:ext cx="0" cy="33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279840" y="3435480"/>
            <a:ext cx="12600" cy="33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29600" y="348444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5484240" y="35413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5817960" y="36356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6440" y="42228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6440" y="451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6440" y="47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6440" y="50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6440" y="537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6440" y="56624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16440" y="59529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22360" y="3330720"/>
            <a:ext cx="2178000" cy="2912400"/>
            <a:chOff x="522360" y="3330720"/>
            <a:chExt cx="2178000" cy="2912400"/>
          </a:xfrm>
        </p:grpSpPr>
        <p:sp>
          <p:nvSpPr>
            <p:cNvPr id="213" name=""/>
            <p:cNvSpPr/>
            <p:nvPr/>
          </p:nvSpPr>
          <p:spPr>
            <a:xfrm>
              <a:off x="539640" y="343980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9640" y="39765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7280" y="343980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16000" y="343980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0520" y="348912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   </a:t>
              </a: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YS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307440" y="354564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641160" y="363996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9640" y="4227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9640" y="45147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640" y="48020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9640" y="50893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640" y="53766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9640" y="56671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9640" y="5957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001520" y="4010040"/>
            <a:ext cx="161028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LF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LF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C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C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O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AL/ULM int&amp;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37000" y="3963960"/>
            <a:ext cx="199584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Contrac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Architects. Spec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LF ex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520" y="1322280"/>
            <a:ext cx="3848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36240" y="4005360"/>
            <a:ext cx="48708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66720" y="3998880"/>
            <a:ext cx="38484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2000" y="623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24360" y="623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0560" y="4005360"/>
            <a:ext cx="38484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080" y="4010040"/>
            <a:ext cx="3848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56280" y="4005360"/>
            <a:ext cx="199584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Contrac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UI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Architects. Spec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C ex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41920" y="4005360"/>
            <a:ext cx="38484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30640" y="4005360"/>
            <a:ext cx="38484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9920" y="1322280"/>
            <a:ext cx="3848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57400" y="0"/>
            <a:ext cx="4761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0000"/>
                </a:solidFill>
                <a:uFillTx/>
                <a:latin typeface="Minion"/>
                <a:ea typeface="文鼎中黑"/>
              </a:rPr>
              <a:t>very urgent</a:t>
            </a: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: need 31 architects, 9 integration m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3333cc"/>
                </a:solidFill>
                <a:uFillTx/>
                <a:latin typeface="Minion"/>
                <a:ea typeface="文鼎中黑"/>
              </a:rPr>
              <a:t>urgent</a:t>
            </a: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: 4 proj. Leaders, 8 sub-proj leade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Minion"/>
                <a:ea typeface="文鼎中黑"/>
              </a:rPr>
              <a:t>6 contract mgrs, 7 UI experts, 5 core engine exp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652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65120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F2D-FE62-4C2E-BD59-FFDE3DD1D8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Additional Locations: India or Chin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In a nutshell: Real ramp-up Not Now !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India or China (more so India) would make sense for development of „isolated“ software application packages that are not core and not close to platform and device lay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UI programming today is a parametrization effort rather than real programming, and is best done next to the platfor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MAO is partner for all „isolated“ software packages (Java, PC tools, customization tool); our obligation for work increases with our sales success in Brazi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From complexity point of view, we should do either MAO or India, but not bot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Support activities from India will continue on low load basis when needed (SISL, WIPRO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Possible topics for India in 1 – 2 yea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spcAft>
                <a:spcPts val="451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Simulation tools (today from IFX), esp. for Qualcom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spcAft>
                <a:spcPts val="451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</a:rPr>
              <a:t>Server software if the „thin client phone“ picks up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Next Step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Minion"/>
              </a:rPr>
              <a:t>Will be re-considered in 1 yea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67A-CF1E-4B01-9C72-8C49706A1F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HE RD: Hiring Tactic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305920" cy="567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In MUC, KLF, WRO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Internal referral program with bonus for everyone bringing a good hire (Euro 2500.-; 50% when signing, 50% after 7 months if new hire is still be employed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Program will be announced latest Feb. 1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In KLF: more flexibility with salaries needed to be competitive; for new hires and for key employees (proposal in preparation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General skill transi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Increase number of staff with informatics degrees (vs. Engineering degrees); analysis with HR under wa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Besides online advertising (e.g. Monster), utilize classic media like VDI Nachrichten, ct, oth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Hiring initiatives at CEBIT and with Universities in prepar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Immediate Focu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31 architects &amp; technical experts in MUC und KL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9 integration managers in MUC und KL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4 proj. leaders, 8 sub-proj leaders, 6 contract mgrs, 7 UI experts, 5 core engine experts in MUC and KL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Freigabe Schritt 2b für Systemtest: insource 11 KLF and 15 MUC (bis Ende Jan 06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</a:rPr>
              <a:t>Insource 7 – 10 staff for Tools &amp; IT gro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Win back into RD key people from CM organization and other places that aren‘t directly contributing to the produc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Minion"/>
              </a:rPr>
              <a:t>Request for 12 – 15 people from C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Minion"/>
              </a:rPr>
              <a:t>Name list proposal will be provid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7" name=""/>
          <p:cNvSpPr/>
          <p:nvPr/>
        </p:nvSpPr>
        <p:spPr>
          <a:xfrm>
            <a:off x="4500720" y="6165720"/>
            <a:ext cx="144360" cy="574920"/>
          </a:xfrm>
          <a:custGeom>
            <a:avLst/>
            <a:gdLst>
              <a:gd name="textAreaLeft" fmla="*/ 0 w 144360"/>
              <a:gd name="textAreaRight" fmla="*/ 52200 w 144360"/>
              <a:gd name="textAreaTop" fmla="*/ 14760 h 574920"/>
              <a:gd name="textAreaBottom" fmla="*/ 560160 h 5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42040" y="614052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Minion"/>
                <a:ea typeface="文鼎中黑"/>
              </a:rPr>
              <a:t>need help from JE und C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69A-407B-4932-8A90-E5A76D6AEC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iegfried Bocionek</cp:lastModifiedBy>
  <dcterms:modified xsi:type="dcterms:W3CDTF">2006-01-26T06:47:38Z</dcterms:modified>
  <cp:revision>113</cp:revision>
  <dc:subject/>
  <dc:title>PowerPoint 簡報</dc:title>
</cp:coreProperties>
</file>